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EE6-3F32-4AF2-BCC0-1E8DBB39B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A06F-2A94-41AD-9D42-7CA24A8CB5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1201-B997-445A-BABA-D00BCF2F7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4C15-25C1-4E83-8C2E-E2E8A0799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075C-53C6-42BE-A606-13D252F66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271E-835A-42AC-AF38-DBE979D2D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8DF9-4864-48AE-9265-1B24B7591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AC31-119D-42E3-8019-A0962987C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1091-505F-4C6A-BA1F-CC4151DD6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C2C6-1085-4C79-865D-50630F915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4480" y="376200"/>
            <a:ext cx="519768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7517-335A-4140-9DE5-25656B665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B2FF-823A-4045-BB2C-42213BB08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B516-5FEB-4497-8983-AD817613B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4480" y="356400"/>
            <a:ext cx="5197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251E-E862-42DE-9424-530D97934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3F78EBD-953A-4966-B747-D1B4FAA83A7C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3" descr="1"/>
          <p:cNvPicPr/>
          <p:nvPr/>
        </p:nvPicPr>
        <p:blipFill>
          <a:blip r:embed="rId3"/>
          <a:stretch/>
        </p:blipFill>
        <p:spPr>
          <a:xfrm>
            <a:off x="7097760" y="333360"/>
            <a:ext cx="15778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0600" y="529236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5" descr="1"/>
          <p:cNvPicPr/>
          <p:nvPr/>
        </p:nvPicPr>
        <p:blipFill>
          <a:blip r:embed="rId1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482960B-8C76-4A82-A080-58BB041EBCE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14480" y="376200"/>
            <a:ext cx="51976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FBC2542-604A-47DA-A9A8-939C2AD42E3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68360" y="31640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坡下载站编辑整理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1"/>
          <p:cNvPicPr/>
          <p:nvPr/>
        </p:nvPicPr>
        <p:blipFill>
          <a:blip r:embed="rId2"/>
          <a:stretch/>
        </p:blipFill>
        <p:spPr>
          <a:xfrm>
            <a:off x="468360" y="277920"/>
            <a:ext cx="234324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6400F6C-A633-441A-9250-11DDE21D42B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声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0" descr="png-0644"/>
          <p:cNvPicPr/>
          <p:nvPr/>
        </p:nvPicPr>
        <p:blipFill>
          <a:blip r:embed="rId1"/>
          <a:stretch/>
        </p:blipFill>
        <p:spPr>
          <a:xfrm>
            <a:off x="3703680" y="17924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png-0652"/>
          <p:cNvPicPr/>
          <p:nvPr/>
        </p:nvPicPr>
        <p:blipFill>
          <a:blip r:embed="rId2"/>
          <a:stretch/>
        </p:blipFill>
        <p:spPr>
          <a:xfrm>
            <a:off x="7645320" y="179244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tm_logo"/>
          <p:cNvPicPr/>
          <p:nvPr/>
        </p:nvPicPr>
        <p:blipFill>
          <a:blip r:embed="rId3"/>
          <a:srcRect l="0" t="0" r="394" b="0"/>
          <a:stretch/>
        </p:blipFill>
        <p:spPr>
          <a:xfrm>
            <a:off x="6659640" y="239760"/>
            <a:ext cx="201600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74C71B4-4ACA-4318-997F-92E70101922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292400" y="3019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Sky123.Org</cp:lastModifiedBy>
  <dcterms:modified xsi:type="dcterms:W3CDTF">2015-04-30T03:15:34Z</dcterms:modified>
  <cp:revision>166</cp:revision>
  <dc:subject/>
  <dc:title>PowerPoint Template</dc:title>
</cp:coreProperties>
</file>